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A0D-1AE4-44DA-8ADF-F18C7083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4B5-5B93-4712-AC7D-D659BE6E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624-AE32-4F3A-BDCB-FDA097D5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B1A-94B4-4397-984E-6EC51277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3792D-62F9-4CDB-8493-970EA5EC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59CA-3158-4AFB-82AE-54EC24B5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22CD-1B81-4C2C-A9A8-EFD82274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7AD8-F340-4036-8D1B-94C554C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C83DB-7BEA-4BB2-A607-8FB50B1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7D7C6-F507-41F4-928A-5718285C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BE44C-FB65-41E4-A9EE-0B094F4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3FD-4713-4EC2-AEAF-50A705A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950BC-A869-4FBD-B598-3B658F1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CF404-9A22-4C53-8193-204CA177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F98BA-DE6D-4363-BE24-34E3619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2ABAF-77AD-4816-9228-51CE18AB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C52EC-C070-4429-9C77-F2F6868C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D8F-454B-4623-B439-6B556FA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7F3-0F57-4298-A9F5-D25DE5C7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647-8CF3-44B7-B73D-FFE82A0C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FC4-4955-455F-94F0-E2A040CB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093-C94C-47A8-A040-0902C1B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003-17B0-451E-B9F3-398966DB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71F-3BED-405D-9F3F-F1CF1D4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219-E90B-4446-BB1D-48D182EC04A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6B9C-28DB-445F-A301-1F5C04A7CF3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867280" y="404640"/>
            <a:ext cx="25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M17/8/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merly e-NAV10/5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7-06T09:33:55Z</dcterms:modified>
  <cp:revision>23</cp:revision>
  <dc:subject/>
  <dc:title>Slide 1</dc:title>
</cp:coreProperties>
</file>